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.png" ContentType="image/png"/>
  <Override PartName="/ppt/media/image3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C038-80B4-4D25-9D50-127C52A30D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FS writes update records with physical descriptions. Transaction-processing or 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-level software might benefit from writing update records in logical terms, however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logically expressed updates are more compact than physically expressed on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ical descriptions necessarily depend on NTFS to understand what operations such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eting a file invol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FS writes update records (usually several) for each of the following transaction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Creat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Delet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Extend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Truncat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Setting file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Renam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Changing the security applied to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redo and undo information in an update record must be carefully designed beca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though NTFS undoes a transaction, recovers from a system failure, or even operates normally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might try to redo a transaction that has already been done or, conversely, to undo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action that never occurred or that has already been undone. Similarly, NTFS might try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o or undo a transaction consisting of several update records, only some of which ar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disk. The format of the update records must ensure that executing redundant redo 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do operations is idempotent, that is, has a neutral effect. For example, setting a bit tha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ready set has no effect, but toggling a bit that has already been toggled does. The file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st also handle intermediate volume states correctl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point records In addition to update records, NTFS periodically writes a check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rd to the log file. A checkpoint record helps NTFS determine what processing would be needed to recover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lume if a crash were to occur immediately. Using information stored in the check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rd, NTFS knows, for example, how far back in the log file it must go to begin its recove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writing a checkpoint record, NTFS stores the LSN of the record in the restart area so th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can quickly find its most recently written checkpoint record when it begins file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very after a crash occu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Windows boot process doesn’t begin when you power on your computer or pres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button. It begins when you install Windows on your computer. At some point dur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tion of the Windows Setup program, the system’s primary hard disk is prepar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de that takes part in the boot process. Before we get into what this code does, let’s look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w and where Windows places the code on a disk. Since the early days of MS-DOS, a stand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existed on x86 systems for the way physical hard disks are divided into volu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perating systems split hard disks into discrete areas known as partitions and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 systems (such as FAT and NTFS) to format each partition into a volume. A hard disk 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in up to four primary partitions. Because this apportioning scheme would limit a di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four volumes, a special partition type, called an extended partition, further allocates up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ur additional partitions within each primary partition. Extended partitions can cont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ended partitions, which can contain extended partitions, and so on, making the nu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volumes an operating system can place on a disk effectively infinit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sical disks are addressed in units known as sectors. A hard disk sector on an IBM-compati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is typically 512 bytes. Utilities that prepare hard disks for the definition of volu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ing the MS-DOS Fdisk utility or the Windows Setup program, write a sector of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led a Master Boot Record (MBR) to the first sector on a hard disk. The MBR includes a fixed amount of space that contains execut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s (called boot code) and a table (called a partition table) with four entries that def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locations of the primary partitions on the disk. When an IBM-compatible computer boot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irst code it executes is called the BIOS, which is encoded into the computer’s RO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OS selects a boot device, reads that device’s MBR into memory, and transfers contro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de in the MB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MBRs written by Microsoft partitioning tools, such as the one integrated into Windo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up and the Disk Management MMC snap-in, go through a similar process of reading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ferring control. First, an MBR’s code scans the primary partition table until it locates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ition containing a flag that signals the partition is bootable. When the MBR finds at le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e such flag, it reads the first sector from the flagged partition into memory and transf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 to code within the partition. This type of partition is called a boot partition,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rst sector of such a partition is called a boot sector. The volume defined for the boot part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alled the system volu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standard BIOS implementations that x86 hardware uses dictate one requirement of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itioning format in Windows—that the first sector of the primary disk contains the Ma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ot Record (MBR). When an x86 processor boots, the computer’s BIOS reads the MBR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eats part of the MBR’s contents as executable code. The BIOS invokes the MBR code to initi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 operating system boot process after the BIOS performs preliminary configura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computer’s hardware. In Microsoft operating systems, including Windows, the MBR al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ains a partition table. A partition table consists of four entries that define the locations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 many as four primary partitions on a disk. The partition table also records a partition’s typ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umerous predefined partition types exist, and a partition’s type specifies which file sys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partition includes. For example, partition types exist for FAT32 and NTFS. A special part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, an extended partition, contains another MBR with its own partition table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quivalent of a primary partition in an extended partition is called a logical drive. By us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tended partitions, Microsoft’s operating systems overcome the apparent limit of four part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 disk. In general, the recursion that extended partitions permit can continue indefinitely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ich means that no upper limit exists to the number of possible partitions on a dis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Windows boot process makes evident the distinction between primary and logical driv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system must mark one primary partition of the primary disk as active. The Windows co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the MBR loads the code stored in the first sector of the active partition (the system volu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o memory and then transfers control to that code. Because of the role in the boot 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layed by this first sector in the primary partition, Windows designates the first sector of 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ition as the boot sector. Recall from Chapter 4 that every partition formatted with a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stem has a boot sector that stores information about the structure of the file system on th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i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disks are the disk format in Windows necessary for creating multipart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lumes such as mirrors, stripes and RAID-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disks are partitioned using Logical Disk Manager (LDM) partitioning. The LD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system in Windows, which consists of user-mode and device driver components, overs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disks. Microsoft licenses LDM from VERITAS Software, which originally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DM technology for UNIX systems. Working closely with Microsoft, VERITAS ported its LD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Windows to provide the operating system with more robust partitioning and multipart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lume capabilities. A major difference between LDM’s partitioning and MBR and GPT partit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that LDM maintains one unified database that stores partitioning information for 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ynamic disks on a system—including multipartition-volume configur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LDM’s UNIX version incorporates disk groups, in which all the dynamic disks that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assigns to a disk group share a common database. VERITAS’s commercial volume-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 for Windows also includes disk groups, but the Windows LDM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s only one disk grou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E859-B4D6-4A66-9783-8F9D61A06B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anned volume is a single logical volume composed of a maximum of 32 free partition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r more disks. The Windows Disk Management MMC snap-in combines the part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spanned volume, which can then be formatted for any of the Windows-supported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. Spanned volumes were called volume sets in Windows NT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anned volume is useful for consolidating small areas of free disk space into one larger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for creating a single, large volume out of two or more small disks. If the spanne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een formatted for NTFS, it can be extended to include additional free areas or addi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s without affecting the data already stored on the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F79A-E4C7-4BDF-98E3-6DA96AD386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iped volume is a series of up to 32 partitions, one partition per disk, that gets comb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single logical volume. Striped volumes are also known as RAID level 0 (RAID-0) volu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partition in a striped volume need not span an entire disk; the only restriction is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tions on each disk be the same siz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file system, this striped volume appears to be a single volume, but a volume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zes data storage and retrieval times on the striped volume by distributing the volume’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physical disks. The volume manager accesses the physical sectors of the disks a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numbered sequentially in stripes across the di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mirrored volume, the contents of a partition on one disk are duplicated in an equal-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tition on another disk. Mirrored volumes are sometimes referred to as RAID level 1 (RAID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a program writes to drive C:, the volume manager writes the same data to the same 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mirror partition. If the first disk or any of the data on its C: partition beco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readable because of a hardware or software failure, the volume manager automatic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sses the data from the mirror partition. A mirror volume can be formatted for any of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s-supported file systems. The file system drivers remain independent and are n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fected by the volume manager’s mirroring ac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rrored volumes can aid in read I/O throughput on heavily loaded systems. When I/O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high, the volume manager balances its read operations between the primary part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the mirror partition (accounting for the number of unfinished I/O requests pending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ch disk). Two read operations can proceed simultaneously and thus theoretically finish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lf the time. When a file is modified, both partitions of the mirror set must be written, 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k writes are done asynchronously, so the performance of user-mode programs is gener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affected by the extra disk upd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RAID-5 volume is a fault tolerant variant of a regular striped volume. RAID-5 volumes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D level 5. They are also known as striped volumes with parity because they are ba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striping approach taken by striped volumes. Fault tolerance is achieved by reser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quivalent of one disk for storing parity for each strip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ch time data is written to a disk, the parity bytes correspo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the modified bytes must be recalculated and rewritten. If the parity were always writ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the same disk, that disk would be busy continually and could become an I/O bottlenec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vering a failed disk in a RAID-5 volume relies on a simple arithmetic principle: in an eq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n variables, if you know the value of n – 1 of the variables, you can determine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f the missing variable by subtraction. For example, in the equation x + y = z, where 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esents the parity stripe, the volume manager computes z – y to determine the contents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; to find y, it computes z – x. The volume manager uses similar logic to recover lost data. If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k in a RAID-5 volume fails or if data on one disk becomes unreadable, the volume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nstructs the missing data by using the XOR operation (bitwise logical addi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least three disks (or rather, three same-sized partitions on thr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ks) are required to create a RAID-5 volu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inarily, if a program tries to read data from a bad disk sector, the read operation fai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in the allocated cluster becomes inaccessible. If the disk is formatted as a fault-toler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FS volume, however, the Windows fault-tolerant driver dynamically retrieves a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f the data that was stored on the bad sector and then sends NTFS a warning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or is bad. NTFS allocates a new cluster, replacing the cluster in which the bad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des, and copies the data to the new cluster. It flags the bad cluster and no longer uses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ata recovery and dynamic bad-cluster remapping is an especially useful feature for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s and fault-tolerant systems or for any application that can’t afford to lose data. If the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 isn’t loaded when a sector goes bad, NTFS still replaces the cluster and doesn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it, but it can’t recover the data that was on the bad s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ection we discuss the fault-tolerance and availability mechanisms found in Windows Server 2003. On the file-system side, in addition to proper disk management and antivirus protection, Windows Server 2003 provides Distributed File System (DFS), Volume Shadow Copy (VSC), and Remote Storage technolog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system-level fault tolerance, Windows Server 2003 includes the Microsoft Cluster Service (MSCS) and Network Load Balancing (NLB) technologies to provide redundancy and failover cap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ributed File System (DFS) is a service that layers on top of the Workstation service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 together file shares into a single namespace. The file shares can reside on the s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er or on different computers, and DFS provides client access to the resources in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ion-transparent manner. The root of a DFS namespace must be a file share defined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Windows serv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ddition to delivering a unified network-resource namespace, DFS provides other bene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ough DFS replica sets. An administrator can a create DFS replica set from two or m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s and use a replication mechanism such as FRS to copy data between the shares of a rep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 to keep their contents synchronized. DFS provides several forms of load balancing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dering and/or selecting members of a replica set to fulfill a client request for data on the rep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. In addition, DFS achieves high availability by routing requests to the working me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 members of a replica set when a member becomes unavaila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erver-side implementation of DFS consists of a Windows service (\Windows\System32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ssvc.exe) and a device driver (\Windows\System32\Drivers\Dfs.sys). The DFS service 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ponsible for exporting DFS topology management interfaces and maintaining the D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ology in either the registry (on non–Active Directory systems) or Active Directory. The D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ver performs topology lookups when it receives a client request so that it can direct the 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the system where the file it is requesting resid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client side, DFS support is implemented in the MUP driver, described earlier, and 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IFS redirector for its internal communication with DFS servers. The DFS client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implemented in \Windows\System32\Ntlanman.dll. When a client issues a file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 that specifies a file in the DFS namespace, the MUP driver on the client communic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target file server by using the appropriate redirect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e Replication service (FRS) is included with Windows Server systems. Its primary purpo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to replicate the contents of a domain controller’s \SYSVOL directory, which is where Window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main controllers store logon scripts and group policies. (Group policies perm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ministrators to define usage and security policies for the computers that belong to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main.) In addition, FRS can be used to replicate Distributed File System (DFS) sha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tween systems. FRS allows for distributed multimaster replication, which enables 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 to perform replication activity. When a replicated directory or file is changed,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nges are propagated to the other domain controll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fundamental concept in FRS is a replica set, which consists of two or more systems th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licate between themselves the contents of a directory tree according to an administrativ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ined schedule and topology. Only directories on NTFS volumes can be replicated beca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S relies on the NTFS change journal to detect changes to files in directories in a replica se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cause FRS is based on multimaster replication, it can theoretically support hundreds 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n thousands of systems as part of a replica set, and the computers of a replica set can b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 with arbitrary network topologies (such as ring, star, or mesh). Computers can al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 members of multiple replica set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S is implemented as a Windows service (\Windows\System32\Ntfrs.exe) that u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thenticated RPC with encryption to communicate between instances of itself running 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fferent computers. In addition, because Active Directory contains its own replication capabiliti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S uses Active Directory APIs to retrieve FRS configuration information from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main’s Active Director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Load Balancing, which is included with Windows Advanced Server, is based on NDIS intermediate-driver technolog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Load Balancing allows for the creation of a cluster containing up to 32 computers, which are called cluster h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Network Load Balancing. The cluster maintains a single virtual IP address that is pub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access by clients, and client requests go to all the computers in the cluster. However, on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e cluster host responds to the request. The Network Load Balancing NDIS drivers effectiv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tition the client space among available cluster hosts in a distributed manner. T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y, each host handles its portion of incoming client requests and every client request alw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s handled by one and only one host. The cluster host that determines it should handle a 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 allows the request to propagate up to the TCP/IP protocol driver and eventually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 application; the other cluster hosts don’t. If a cluster host fails, the rest of the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lizes that the cluster host is no longer a candidate for processing requests and redistrib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coming client requests to the remaining cluster hosts. No new client requests are sent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owned cluster host. Another cluster host can be added to the cluster as a replacemen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it will then seamlessly start handling client reques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Load Balancing isn’t a general-purpose clustering solution because the server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lients communicate with must have certain characteristics: the first is that it m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TCP/IP-based, and the second is that it must be able to handle client requests on an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Network Load Balancing cluster. This second requirement typically means that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that must have access to shared state in order to service client requests must man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red state itself—Network Load Balancing doesn’t include services for automa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ng shared state across cluster hosts. Applications that are ideally suited for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Balancing include a Web server that serves static content, Windows Media Server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4CD3-F110-4D7F-BE9A-AEBA979350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FS writes several types of records to its transaction log. Two types, update records and checkpoint records, are describ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records Update records are the most common type of record NTFS writes to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 file. Each update record contains two kinds of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do information How to reapply one suboperation of a fully logged (“committed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o the volume if a system failure occurs before the transaction is flu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ndo information How to reverse one suboperation of a transaction that was only parti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d (“not committed”) at the time of a system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recovering after a system failure, NTFS reads through the log file and redoes each com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. Although NTFS completed the committed transactions before th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ure, it doesn’t know whether the cache manager flushed the volume modifications to 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ime. The updates might have been lost from the cache when the system failed.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FS executes the committed transactions again just to be sure that the disk is up to 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redoing the committed transactions during a file system recovery, NTFS locates all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s in the log file that weren’t committed at failure and rolls back (undoes) each sub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ad been logg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48588-7A38-4859-A168-D01166B6F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E8A30-A5C9-452D-B3EF-E28BD81DF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0E836-EB8F-411E-BFCC-F8615B76B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089A-C27B-40E7-B2B5-FA1241E02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8BEE5-AB6E-45B5-AF29-2A6ED83D2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98FF6-F8D9-445F-912C-9BC66CD00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CD8BF-00DB-4AE4-8669-8223CB48A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E86C7-088B-42A2-9213-1E0E88739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00D84-315D-46E5-8035-88AF514C1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16656-2EB8-49FE-9F90-AF7E565C3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B8576-FFEA-4444-B4F6-C53101BD1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59F7-DC57-4598-BA30-967523E0B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B37E-1892-46C2-9542-5ABD766EB0A3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10: Fault Toleranc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covery - Pass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 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scans forward in log file from beginning of last check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s transaction/dirty page tables it copied in 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scans tables for oldest update record of a non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i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 tr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o 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looks for “page update“ records which contain volume modification that might not have been flushed to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redoes these updates in the cache until it reaches end of log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che manager “lazy writer thread“ begins to flush cache to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 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l back any transactions that were not committed when system fai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ter undo pass – volume is at consistent 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 empty LFS restart area; no recovery is needed if system fails n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22494-6D68-4EE4-BB9C-129E36F5E4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66680" y="48006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4495680"/>
            <a:ext cx="1447920" cy="381240"/>
          </a:xfrm>
          <a:prstGeom prst="rect">
            <a:avLst/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Undo Pass - Exampl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44953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Transaction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committed before power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Transaction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still ac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must log undo operations in log fil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wer might fail again during recovery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would have to redo its undo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133720"/>
            <a:ext cx="106704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2133720"/>
            <a:ext cx="106668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2133720"/>
            <a:ext cx="10666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2133720"/>
            <a:ext cx="106668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2133720"/>
            <a:ext cx="106704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2133720"/>
            <a:ext cx="106704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057400"/>
            <a:ext cx="876312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447920" y="2438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14600" y="274320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3124080"/>
            <a:ext cx="2743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257800" y="274320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114800" y="274284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2971800"/>
            <a:ext cx="2743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858000" y="274284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391520" y="243828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71400" y="1523880"/>
            <a:ext cx="299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 committed“ 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562720" y="1828440"/>
            <a:ext cx="759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5000" y="3886200"/>
            <a:ext cx="401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Allocate/Initialize an MFT file 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Deallocate the file 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90160" y="3276720"/>
            <a:ext cx="40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Add the filename to the ind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Remove the filename from the ind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18960" y="3886200"/>
            <a:ext cx="32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Set bits 3-9 in the bit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Clear bits 3-9 in the bit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229600" y="274284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248520" y="2743200"/>
            <a:ext cx="30456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666880" y="2742840"/>
            <a:ext cx="91440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1066680"/>
            <a:ext cx="1371600" cy="121932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Power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fail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DBFC3-277F-4F91-BF83-C966F7ABE7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TFS Recovery - Conclusion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very will return volume to some preexisting consistent state (not necessarily state before cras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zy commit algorithm: log file is not immediately flushed when a „transaction committed“ record is writ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 File Service batches record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sh when cache manager calls or check pointing record is written (once every 5 sec); also when log is f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parallel transactions might have been active before cr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uses log file mechanisms for error hand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I/O errors are not file system err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might create MFT record and detect that disk is full when allocating space for a file in the bitm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uses log info to undo changes and returns „disk full“ error to ca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36649-710A-4374-B55B-8727986162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 Tolerance Support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sing multiple disk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FS‘ capabilities are enhanced by the fault-tolerant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olume manag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tDisk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/DM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es above hard disk drivers in the I/O system‘s layered driver sche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tDisk – for basic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MIO – for dynamic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management capabilitie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ndant data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ynamic data recovery from bad sectors on SCSI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FS itself implements bad-sector recovery f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SCSI d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011D3-CBE9-440E-857A-4E4B10431D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erminolog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k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e a physical storage device such as a hard disk, a 3.5-inch floppy disk, or a CD-R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disk is divided into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tors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ddressable blocks of fixed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tor sizes are determined by hardw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l current x86-processor hard disk sectors are 512 bytes, and CD-ROM sectors are typically 2048 by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ture x86 systems might support larger hard disk sector siz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rtit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e collections of contiguous sectors on a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rtition t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 other disk-management database stores a partition's starting sector, size, and other characteris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mple volu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e objects that represent sectors from a single partition that file system drivers manage as a single un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ltipartition volu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e objects that represent sectors from multiple partitions and that file system drivers manage as a single 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partition volumes offer performance, reliability, and sizing features that simple volumes do n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B688D-1A39-466B-A56A-8888FE61B1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sic vs Dynamic Dis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65680" indent="-2656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disk partitioning schemes used by Window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ic disk partitio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ynamic disk partitio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ic disks rely on MS-DOS-style disk partitio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really Windows legacy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information for each disk stored on dis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partition information not stored on dis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n be lost when disk moved, OS reinstall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ynamic disks implement a more flexible partitioning sch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guration of multipartition volumes is on disk and mirrored across the dynamic disks of the same computer. This allows for easy migration and minimizes chances of disk configuration los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advantage is that partitioning is not understood by other OS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ptops only support basic disk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ually only disk and disks not remov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disks are basic disks unless created new as dynamic disks or conver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08F8D-038C-4D57-8085-ABAB2E8F90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sic Disk Partition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disk has a sector called a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aster Boot Record (MBR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its first sector, that defines the first level of partitioning with i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artition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98680" y="2514600"/>
            <a:ext cx="838080" cy="6858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98680" y="3200400"/>
            <a:ext cx="83808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98680" y="3427560"/>
            <a:ext cx="838080" cy="22860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98680" y="3657600"/>
            <a:ext cx="83808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8680" y="3886200"/>
            <a:ext cx="83808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51320" y="25750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 c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67160" y="3124080"/>
            <a:ext cx="29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00680" y="327672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ion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93960" y="3200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93960" y="4114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4624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946240" y="32004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648320"/>
            <a:ext cx="15264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46483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4648320"/>
            <a:ext cx="12193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46483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4648320"/>
            <a:ext cx="1219320" cy="60948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Boot part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4648320"/>
            <a:ext cx="152280" cy="609480"/>
          </a:xfrm>
          <a:prstGeom prst="rect">
            <a:avLst/>
          </a:prstGeom>
          <a:solidFill>
            <a:srgbClr val="e386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4648320"/>
            <a:ext cx="5335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62520" y="46483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4648320"/>
            <a:ext cx="5335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648320"/>
            <a:ext cx="53316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4648320"/>
            <a:ext cx="5335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46483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4648320"/>
            <a:ext cx="12193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240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56272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9360" y="57754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20960" y="57913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4880" y="5791320"/>
            <a:ext cx="114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3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extende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54880" y="57913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4343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4343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43434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41911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68880" y="358128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s within an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ended part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219320" y="41148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066680" y="2514240"/>
            <a:ext cx="38124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2590920"/>
            <a:ext cx="228600" cy="228600"/>
          </a:xfrm>
          <a:prstGeom prst="rect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2514600"/>
            <a:ext cx="21337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B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 s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ended partitio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 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2971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3352680"/>
            <a:ext cx="228600" cy="228600"/>
          </a:xfrm>
          <a:prstGeom prst="rect">
            <a:avLst/>
          </a:prstGeom>
          <a:solidFill>
            <a:srgbClr val="e386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496EB-176F-422D-BB14-57E190D52B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sic Disk Partition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BR describes up to 4 primary part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rst record of each primary partition is 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oot rec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primary partition can be marked “bootabl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partition has a partition type (FAT, FAT32, NTFS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overcome a 4-partition limit, a basic disks define a special type of partition called 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xtended par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ke a subdisk, complete with its own M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NT 4, configuration for multipartition volumes is stored in the Registry’s HKLM\System\Disk subk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t of system is reinstalled or disk is moved to anothe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1DC34-CE6F-4692-9A90-C87FE8F843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ynamic Disk Partition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9120" indent="-339120"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ynamic disk partitioning scheme is defined by a component called Logical Disk Manager (LD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438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DM consists of a service and driver compon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438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ynamic disk partitioning scheme was co-developed with Veritas Software, porting LDM from UNIX implemen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120" indent="-339120"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DM maintains one unified database that stores all partitioning information, for all disks in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438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base also stores multipartition configu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438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base occupies last 1 MB of each dynamic disk, and is mirrored across a system’s dynamic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01400" indent="-256320"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ritas offers add-on software that allow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ynamic disks to be managed in subset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led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disk grou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5486400"/>
            <a:ext cx="152280" cy="533520"/>
          </a:xfrm>
          <a:prstGeom prst="rect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5486400"/>
            <a:ext cx="2666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5486400"/>
            <a:ext cx="53352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54480" y="5880240"/>
            <a:ext cx="8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st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6248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52800" y="64008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DM partition a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43400" y="624852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84560" y="640080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DM data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10280" y="5257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5257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52578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36120" y="487692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M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6095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62520" y="60195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EA52A-34F0-4D96-943F-4DEFD78801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ynamic Partition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uter’s boot and system disks have  a mix of dynamic and basic disk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LDR only understands basic-disk partitio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DM partitions are calle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ft parti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ereas basic-disk partitions ar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ard part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 on “pure” dynamic disks, the MBR contains a basic-disk partition table that defines the entire usable area of the disk as a single hard partition of type LD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DM manages the space within the LDM partition in its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66CC5-0345-4FAC-85E1-1F86334371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890F6-F7A5-4072-980B-32E84EA92B4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ultipartition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ultipartition volumes available in Windows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nned 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rrored 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ped-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-5 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artitions that make up new multipartition volumes must be on dynamic d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preserves NT 4 multipartition volumes on basic disks during an upgr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34A3F-D11C-45F5-BF44-BAA78D3D27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Volume Management Features –</a:t>
            </a:r>
            <a:br>
              <a:rPr sz="4000"/>
            </a:br>
            <a:r>
              <a:rPr b="0" lang="de-DE" sz="4000" spc="-1" strike="noStrike">
                <a:solidFill>
                  <a:srgbClr val="fe9900"/>
                </a:solidFill>
                <a:latin typeface="Arial"/>
              </a:rPr>
              <a:t>Spanned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3657240"/>
            <a:ext cx="822960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pann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gle logical volume composed of a maximum of 32 areas of free space on one or more dis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volume sets can be dynamically increased in siz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nly bitmap file which stores allocation status needs to be extend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de physical configuration of disks from fil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: Windows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sk Management MMC snap-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panned volumes were called volume sets in Windows NT 4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200400" y="2133720"/>
            <a:ext cx="609480" cy="1143000"/>
            <a:chOff x="3200400" y="2133720"/>
            <a:chExt cx="609480" cy="1143000"/>
          </a:xfrm>
        </p:grpSpPr>
        <p:sp>
          <p:nvSpPr>
            <p:cNvPr id="233" name=""/>
            <p:cNvSpPr/>
            <p:nvPr/>
          </p:nvSpPr>
          <p:spPr>
            <a:xfrm>
              <a:off x="3200400" y="3048120"/>
              <a:ext cx="60948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00400" y="2667240"/>
              <a:ext cx="609480" cy="533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00400" y="2590920"/>
              <a:ext cx="609480" cy="2286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210040"/>
              <a:ext cx="609480" cy="4572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133720"/>
              <a:ext cx="609480" cy="2286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00400" y="221004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9880" y="221004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029200" y="2133720"/>
            <a:ext cx="609480" cy="1143000"/>
            <a:chOff x="5029200" y="2133720"/>
            <a:chExt cx="609480" cy="1143000"/>
          </a:xfrm>
        </p:grpSpPr>
        <p:sp>
          <p:nvSpPr>
            <p:cNvPr id="241" name=""/>
            <p:cNvSpPr/>
            <p:nvPr/>
          </p:nvSpPr>
          <p:spPr>
            <a:xfrm>
              <a:off x="5029200" y="3048120"/>
              <a:ext cx="60948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29200" y="2667240"/>
              <a:ext cx="60948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29200" y="2590920"/>
              <a:ext cx="60948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29200" y="2210040"/>
              <a:ext cx="6094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29200" y="2133720"/>
              <a:ext cx="60948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200" y="221004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38680" y="221004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135880" y="213372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0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64680" y="274320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0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4680" y="205740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0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35880" y="266688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0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01880" y="2133720"/>
            <a:ext cx="159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lume set D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ccupies half of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wo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1DCA-9096-462C-BDDB-EE496B7224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tripe</a:t>
            </a:r>
            <a:r>
              <a:rPr b="0" lang="de-DE" sz="4000" spc="-1" strike="noStrike">
                <a:solidFill>
                  <a:srgbClr val="fe9900"/>
                </a:solidFill>
                <a:latin typeface="Arial"/>
              </a:rPr>
              <a:t>d Volumes (RAID-0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es of partitions, one partition per disk (of same siz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ined into a single logical 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ptimize data storage and retrieval ti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pes are narrow: 64K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tends to be distributed evenly among dis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ple pending read/write ops. will operate on different dis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tency for disk I/O is often reduced (parallel seek oper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2819520"/>
            <a:ext cx="914400" cy="304560"/>
          </a:xfrm>
          <a:prstGeom prst="can">
            <a:avLst>
              <a:gd name="adj" fmla="val 500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2666880"/>
            <a:ext cx="914400" cy="304920"/>
          </a:xfrm>
          <a:prstGeom prst="can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90920" y="2514600"/>
            <a:ext cx="914400" cy="304920"/>
          </a:xfrm>
          <a:prstGeom prst="can">
            <a:avLst>
              <a:gd name="adj" fmla="val 500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2362320"/>
            <a:ext cx="914400" cy="304560"/>
          </a:xfrm>
          <a:prstGeom prst="can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2209680"/>
            <a:ext cx="914400" cy="304920"/>
          </a:xfrm>
          <a:prstGeom prst="can">
            <a:avLst>
              <a:gd name="adj" fmla="val 50000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2057400"/>
            <a:ext cx="914400" cy="304920"/>
          </a:xfrm>
          <a:prstGeom prst="can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19520"/>
            <a:ext cx="914400" cy="304560"/>
          </a:xfrm>
          <a:prstGeom prst="can">
            <a:avLst>
              <a:gd name="adj" fmla="val 500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2666880"/>
            <a:ext cx="914400" cy="304920"/>
          </a:xfrm>
          <a:prstGeom prst="can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67080" y="2514600"/>
            <a:ext cx="914400" cy="304920"/>
          </a:xfrm>
          <a:prstGeom prst="can">
            <a:avLst>
              <a:gd name="adj" fmla="val 500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67080" y="2362320"/>
            <a:ext cx="914400" cy="304560"/>
          </a:xfrm>
          <a:prstGeom prst="can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2209680"/>
            <a:ext cx="914400" cy="304920"/>
          </a:xfrm>
          <a:prstGeom prst="can">
            <a:avLst>
              <a:gd name="adj" fmla="val 50000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2057400"/>
            <a:ext cx="914400" cy="304920"/>
          </a:xfrm>
          <a:prstGeom prst="can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2819520"/>
            <a:ext cx="914400" cy="304560"/>
          </a:xfrm>
          <a:prstGeom prst="can">
            <a:avLst>
              <a:gd name="adj" fmla="val 500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2666880"/>
            <a:ext cx="914400" cy="304920"/>
          </a:xfrm>
          <a:prstGeom prst="can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2514600"/>
            <a:ext cx="914400" cy="304920"/>
          </a:xfrm>
          <a:prstGeom prst="can">
            <a:avLst>
              <a:gd name="adj" fmla="val 500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2362320"/>
            <a:ext cx="914400" cy="304560"/>
          </a:xfrm>
          <a:prstGeom prst="can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2209680"/>
            <a:ext cx="914400" cy="304920"/>
          </a:xfrm>
          <a:prstGeom prst="can">
            <a:avLst>
              <a:gd name="adj" fmla="val 50000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2057400"/>
            <a:ext cx="914400" cy="304920"/>
          </a:xfrm>
          <a:prstGeom prst="can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1676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15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9328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15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9348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15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60640" y="216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4200" y="216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60640" y="232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49960" y="2171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DFD3B-1F25-40AB-ADCA-D087397FD7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 Tolerant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mplement redundant storage sche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rror sets (RAID-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pe sets with parity (RAID-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tor spa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ol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 Windows Disk Management MMC snap-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rrored Volum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s of a partition on one disk are duplicated on another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Disk/DMIO write same data to both lo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spcBef>
                <a:spcPts val="349"/>
              </a:spcBef>
              <a:spcAft>
                <a:spcPts val="349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operations are done simultaneously on both disk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load balancing)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0" y="42670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57600" y="3962520"/>
            <a:ext cx="914400" cy="53316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39040" y="426708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39040" y="39625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26240" y="40384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33720" y="4419720"/>
            <a:ext cx="84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irro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C47DF-FF13-46FD-BA33-A18DA2D187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irrored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improvement because reads of different data can occur in parallel through dynamic load balanc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6667560" cy="482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A68DB-7B06-40D8-80A4-52C5A56D53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e9900"/>
                </a:solidFill>
                <a:latin typeface="Arial"/>
              </a:rPr>
              <a:t>RAID-5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ult tolerant version of a regular stripe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ity: logical sum (X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ity info is distributed evenly over available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construct missing data by using XOR 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35812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32767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19520" y="297180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26668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3623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205740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35812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3276720"/>
            <a:ext cx="914400" cy="53316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297180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26668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2362320"/>
            <a:ext cx="914400" cy="53316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205740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358128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32767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48520" y="297180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266688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23623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205740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2514600"/>
            <a:ext cx="6094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68480" y="271152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a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63830-F9C3-4573-AC86-E7DF17CFDB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he Disk Management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MC Snapi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295280" y="1676520"/>
          <a:ext cx="655344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655344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1F0E9-7217-42BA-B99D-367500AE99F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he Volume Mana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5041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DM Volume Manager inserts itself above disk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s “volumes” to fil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s volume-oriented requests and can create sub-requests aimed at different disks of multipartition volu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00720" y="1341360"/>
          <a:ext cx="3544920" cy="511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00720" y="1341360"/>
                    <a:ext cx="354492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3742D-BA13-434B-8A0F-0F4E428516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d Cluster Recover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or sparing is supported by FtDisk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/DM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ynamic copying of recovered data to spare se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out intervention from file system /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s for certain SCSI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turn bad sector warning to NT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or r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ping is supported by NT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will not reuse bad clus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copies data recovered by 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to a new clu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FS cannot recover data from bad sector without help from FtDisk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/DM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will never write to bad sector (re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 before wri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C5FA-7488-4A77-9450-E4D0F52677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d-cluster re-mapp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69760" y="322884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TFS file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92880" y="322884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dard 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2200" y="322884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urity des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936120" y="32288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3533760"/>
            <a:ext cx="1676520" cy="53352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4600" y="3533760"/>
            <a:ext cx="16765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91120" y="3533760"/>
            <a:ext cx="1523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15000" y="3533760"/>
            <a:ext cx="2895480" cy="16765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5454720"/>
            <a:ext cx="1143000" cy="3045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43360" y="42958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r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5715000" y="3533760"/>
          <a:ext cx="3048120" cy="1800360"/>
        </p:xfrm>
        <a:graphic>
          <a:graphicData uri="http://schemas.openxmlformats.org/drawingml/2006/table">
            <a:tbl>
              <a:tblPr/>
              <a:tblGrid>
                <a:gridCol w="892080"/>
                <a:gridCol w="892440"/>
                <a:gridCol w="126360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tarting VC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tarting LC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umber of clust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3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1677960" y="5133960"/>
            <a:ext cx="14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93800" y="575928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5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56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895480" y="543888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429000" y="543888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56360" y="5759280"/>
            <a:ext cx="22860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48320" y="5438880"/>
            <a:ext cx="257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64880" y="6140520"/>
            <a:ext cx="29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8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89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9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9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765840" y="5743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299360" y="5743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908840" y="5743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190760" y="42958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276720" y="4295880"/>
            <a:ext cx="9144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05160" y="50576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505764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58960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91120" y="5819760"/>
            <a:ext cx="53316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11320" y="551484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88360" y="6124680"/>
            <a:ext cx="12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952520" y="460044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648320" y="4600440"/>
            <a:ext cx="304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69760" y="152388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TFS file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92880" y="152388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dard 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92200" y="152388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urity des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36120" y="15238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8080" y="1828800"/>
            <a:ext cx="1676520" cy="53352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14600" y="1828800"/>
            <a:ext cx="16765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1828800"/>
            <a:ext cx="1523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5791320" y="1828800"/>
          <a:ext cx="2971440" cy="1017720"/>
        </p:xfrm>
        <a:graphic>
          <a:graphicData uri="http://schemas.openxmlformats.org/drawingml/2006/table">
            <a:tbl>
              <a:tblPr/>
              <a:tblGrid>
                <a:gridCol w="893520"/>
                <a:gridCol w="893520"/>
                <a:gridCol w="118440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tarting VC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tarting LC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umber of clust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3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4267080" y="2635200"/>
            <a:ext cx="53352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B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87640" y="23302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64680" y="2940120"/>
            <a:ext cx="12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5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800600" y="2590920"/>
            <a:ext cx="914400" cy="196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F490E-3E7A-4D59-A51D-4418BB3052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10.1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otion of Fault-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ult-Tolerance Support in NT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 Management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ped and Spanned Volu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File System (DFS) and File Replication Service (F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Load Balancing (NL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Clustering (MS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C7D1A-9371-4CA5-8C8F-5A04E102FAA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istributed File System (DFS)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Data Replication for high Availability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rategic storage management solu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mespa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simplified views of folders regardless of where those files physically reside in a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amespace abstracts away file path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of a file server’s name does not break virtual DFS path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stores path names logically as a single name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icated file servers for high avai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85B6A-9143-4D4F-B177-D5256A5526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ow DFS Wor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1120" indent="-321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and a server compon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8480" indent="-3258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Windows system can be a DFS 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88480" indent="-3258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 NT/2000/2003 Server include DFS server compon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1120" indent="-321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iew of shared folders on different servers is called the DFS name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8480" indent="-3258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ke a virtual UNC pa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88480" indent="-3258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ingle namespa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map to phys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urces resid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multiple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038480" y="3276720"/>
          <a:ext cx="4843440" cy="30366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276720"/>
                    <a:ext cx="4843440" cy="30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7CAFA-445A-4704-BEEA-3F99133AB5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FS Oper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96280" indent="-29628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operates in multiple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360" indent="-3002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makes a request of the DFS namespac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360" indent="-3002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S returns the appropriate path to the data (including Active Directory site-costing information when AD is in u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360" indent="-3002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makes a connection to the server and sh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438280" y="3276720"/>
          <a:ext cx="4564080" cy="3405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3276720"/>
                    <a:ext cx="456408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19AC-F203-446F-A225-5B4CB3B530B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FS Authentic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is a multi-protocol architec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SMB and LAN Manager authentication protocols to communicate between a DFS client and a DFS serv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server can redirect requests to various types of shares protocol-specific authent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Message Block (SMB)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File System (NFS)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 for Macintosh™ (AFP) servers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are™ Core Protocol (NCP) serv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client machines must install suitable redirect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A7C20-D6D4-4C14-9227-D8EAE35A79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FS Request Routing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for replicated server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es/Folders on a DFS server can be replicated using File Replication Service (F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S resolves file and folder name conflicts to make data consistent among the replica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S uses “last writer wins” rule to resolve confli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requests are then routed to the closest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server becomes unavailable, DFS ensures that requests are routed to the next closest server by using site-co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Directory site and costing information will be used for routing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.e.; whether sites are connected via inexpensive, high-speed links or by expensive WAN link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041B2-1143-47CB-B966-A28477C354F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ile Replication Service 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(FRS) Detail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ous 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ject to replication schedule, server load, and network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a file or folder is changed and closed, FRS begins replicating within three sec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lt-tolerant replication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ult-tolerant distribution by way of multiple connection paths between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cal file data is sent no more than once to any replica m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BC5CA-43D3-4E30-A679-F16F384AA10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RS Detail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scheduled to occur at specified times and dura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icating data during off-hours may free up network bandwidth for other u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 integ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 are replicated only after they have been changed and cl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S relies on the update sequence number (USN) journal to log records of files that have changed on a replica m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S does not lose track of a changed file even if a replica member shuts down abrup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1B4F3-F4AD-4343-B6DD-11931731369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MT"/>
              </a:rPr>
              <a:t>Distributed File System Solution in Microsoft Windows Server 2003 R2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5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 Replication is a new state-based, multimaster replication eng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s replication scheduling and bandwidth thrott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compression protocol called Remote Differential Compression (RD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35320" indent="-2534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s to efficiently update files over a limited-bandwidth networ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DC detects insertions, removals, and re-arrangements of data in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35320" indent="-2534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DC replicates only the changes when files are upd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-file RDC can help reduce the amount of bandwidth required to replicate new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antial improvements over File Replication Service (F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B5413-BD0A-4734-A2C7-FDC5E9AC953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creased Availability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th DFS and FRS 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may pointing to multiple volumes that can be alternates for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S manages failover to alternate 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copies of read-only shares can be mounted under the same logical DFS name (re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accesses to DFS volumes are evenly distributed across multiple alternate network sh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S and DFS replication (in Server 2003 R2) can be used to maintain consistency among replicated volu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54A9-9048-4CEC-9D64-2B4773430F1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etwork Load Balancing (NLB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lustering technology for stateless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of all Windows 2000 Server and Windows Server 2003 family operat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a distributed algorithm to load balance network traffic across a number of h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2700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ping to enhance the scalability and availability of mission critical, IP-based servic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2700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, Virtual Private Networking, Streaming Media, Terminal Services, Proxy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availability by detecting host failures and redistributing traffic to operational h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F0B3-54EB-4E5D-8A9F-6D5EABFCEB7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-tolerant System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ult-tolerance is the property of a system that continues operating properly in the event of failure of some of its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ts operating quality decreases at all, the decrease is proportional to the severity of the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lt-tolerance is particularly sought-after in high-availability or life-critica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ult-tolerance is not just a property of individual machines; it may also characterize the rules by which they inte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471D8-4DE7-46F5-A73A-A082C92470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LB versus Server Clust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4582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9120" indent="-339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rver cluster (MSCS) is a collection of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single, highly available plat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can be failed over (SQL Server, Exchange Server data stores, file and print server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CS clusters are used for statefu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120" indent="-339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LB clusters distribute network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B clusters provide a highly available and scalable platform for applications such as IIS, ISA server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B is used for stateless applications; i.e. those that do not build any state as a result of a requ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53214-8118-4E33-B7BA-BAF48696901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LB for High Availabil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NLB Detect a Server Fail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NLB Cluster host emits heartbea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gence process to remove a failed host from the clus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default, five seconds are required to detect a failed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gence process takes three seconds to evict the failed host and redistribute its 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F284A-1921-4AF3-904A-572BBA27EB5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LB Load Balancing Algorithm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y distributed filtering algorithm to map incoming clients to the cluster h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hosts simultaneously inspect arriving packets and determine which host should handle the pa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ization function determines destination and calculates a host priority based on IP address, port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ination host forwards the packet to the TCP/IP network st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cluster hosts discard the pa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ping remains unchanged unless the membership of cluster hosts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given clients IP address and port will always map to the same cluster h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affinity settings modify statistical mapping algorith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F1045-45A6-467B-8F1C-F0F631894A7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LB Implementation and Overhead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LB has a kernel component called wlbs.s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n intermediate NDIS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LB also has user-mode management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LB creates additional CPU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linearly with increased throughput on network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6"/>
          <a:stretch/>
        </p:blipFill>
        <p:spPr>
          <a:xfrm>
            <a:off x="2133720" y="3657600"/>
            <a:ext cx="452736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EAA15-3F51-4911-88E9-D4B201C64E3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er Cluster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(Windows Server 2003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stering technology for statefu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ramatically improved version of the Microsoft Cluster Service (MSCS) compon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SCS was included with Windows 2000 Advanced Server and Windows 2000 Datacenter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two and eight servers that will act as nodes in the clu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uster resource include network names, IP addresses, applications, services, and disk dr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79E17-5E43-488D-AFB1-F3058AEE83A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er Cluster Operation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single quorum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s in a cluster use a quorum to track which node owns a clustered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quorum is the storage device controlled by the primary node for a clustered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one node at a time may own the quo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failover, the backup node takes ownership of the quo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quorum may be created on the storage device attached to all nodes (single quorum device server clus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2362320" y="4495680"/>
          <a:ext cx="4952880" cy="2287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62320" y="4495680"/>
                    <a:ext cx="495288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EB784-B42A-478E-9E28-4BFC058C0CE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ajority node set (MNS)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er clust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orum stored on a locally attached storage device connected to each of the cluster n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up node must have a copy of the data stored within the quo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cluster handles this requirement by replicating quorum data across the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can be a LAN, WAN, or VP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209680" y="4419720"/>
          <a:ext cx="5181840" cy="2305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419720"/>
                    <a:ext cx="51818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62045-24F9-4A44-8F01-C98CBBEB2BE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vailability of a Server Clust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ffectively fail over between nodes, majority node set clusters must have at least three no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half of the cluster nodes must be active at all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e.; in a cluster with three nodes, two of them must be active for the cluster to be 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ght node clusters must have five nodes active to remain 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quorum device server clusters require that only a single node continues to fun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7241F-7FE4-47C4-A1F5-190CA037C2A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ardware and Software Failur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ed disks, memory, processors, power, and network equipment are all common sources of unplanned down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Cluster and NLB can be used to provide availability in the event of a failure of a processor, memory chip, power supply, or other hardware compon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Server 2003 clusters provide availability at many other lay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rovide complete redundancy, all layers of your application must be clust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LB provides availability and scalability for the firewalls, front-end servers, and application server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Cluster provides high availability for the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732C2-370A-4B8A-9439-18DFADFA310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ustered Applications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the bigger pictur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533520" y="1523880"/>
          <a:ext cx="8229600" cy="50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22960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0C941-34A2-446A-B338-CE0CC5C347A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 Models and Protocol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to specify Fault Model when discussing fault-tolerant (FT)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FT mechanisms in Windows are dealing with crash faults of computers or applications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ash faults can be handled by replication in space or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09480" y="2662200"/>
            <a:ext cx="8229600" cy="41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DF21E-85E8-436E-8EC7-8F9BD41880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17520" indent="-317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 E. Russinovich and David A. Solomon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oft Windows Internals, 4th Edition, Microsoft Press,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2 - File System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Recovery Support (from pp. 77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3 - Network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Load Balancing and File Replication Service (from pp. 841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0 - Storage Manageme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ume Management (from pp. 62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ed File System (DFS) and File Replication Services (F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icrosoft.com/windowsserver2003/technologies/storage/dfs/default.m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Load Balancing (NLB) for Windows 2000 and Windows Server 2003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icrosoft.com/technet/prodtechnol/windowsserver2003/technologies/clustering/nlbfaq.m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Server 2003 Clust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icrosoft.com/windowsserver2003/techinfo/overview/bdmtdm/default.m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AAB3A-99A6-45F5-9B7D-639F74B8EE84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ource Code Referen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Research Kernel (WRK)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fstub – partition table/MBR support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the other topics covered in this unit are not included with the W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07AD6-F841-4C36-A7B8-E0B0908C8997}" type="slidenum">
              <a:t>51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-tolerance (FT) by duplic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pproaches toward FT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identical system instan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ing tasks or requests to all of them in parallel, and choosing the correct result on the basis of a quo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ndancy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l-over among multiple identical system instan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ll-back or 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sity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different implementations of the same sp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them like replicated systems to cope with errors in a specific 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42C31-73AA-424C-946F-2563AF4A16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-tolerance in NTFS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Increasing System Availability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tion-based logging sch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t, even for large d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very is limited to file system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ransaction processing like SQL server for user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eoff: performance versus fully fault-tolerant File System (F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options for file I/O &amp; cac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eful wri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VAX/VMS FS, other proprietary OS 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zy wri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ost UNIX FS, OS/2 HPF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D3B40-82CF-45DA-A9E0-A70D4A9E7E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coverable File System</a:t>
            </a:r>
            <a:br>
              <a:rPr sz="4000"/>
            </a:br>
            <a:r>
              <a:rPr b="0" lang="en-US" sz="3200" spc="-1" strike="noStrike">
                <a:solidFill>
                  <a:srgbClr val="fe9900"/>
                </a:solidFill>
                <a:latin typeface="Arial"/>
              </a:rPr>
              <a:t>(Journaling File System)</a:t>
            </a:r>
            <a:endParaRPr b="0" lang="en-US" sz="32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 of careful write FS / performance of lazy write 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 file + fast recovery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 file imposes some over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mization over lazy write: distance between cache flushes incre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FS support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che write-throu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che flus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iggered by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extra disk I/O to update FS data structures necessary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changes to FS structure are recorded in log file which can be written in a single 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future, NTFS may support logging for user files (hooks in pla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5028D-935B-4142-88BD-9CC3F15830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covery - Principl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performs automatic reco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d on update records and checkpoints in Log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records store sub operations that change File System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writes checkpoint every 5 se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des copy of transaction table and dirty page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ckpoint includes LSNs of the log records containing the tabl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1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lly a series of records - interleaved with update reco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overy depends on two NTFS in-memory tab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ansaction t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keeps track of active transactions (not complete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ub operations of these transactions must be removed from disk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ty page t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records which pages in cache contain modifications to file system structure that have not yet been written to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5530680"/>
            <a:ext cx="7924680" cy="60984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5607000"/>
            <a:ext cx="9907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irty page 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5607000"/>
            <a:ext cx="9907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5607000"/>
            <a:ext cx="10670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ransaction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607000"/>
            <a:ext cx="10666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heckpoint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5607000"/>
            <a:ext cx="9903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5607000"/>
            <a:ext cx="9903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523880" y="60638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095880" y="60638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4640" y="6292800"/>
            <a:ext cx="28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gin of checkpoint ope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6640" y="6292800"/>
            <a:ext cx="269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 of checkpoint ope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547C9-F29A-4D73-BAC8-C94A9F6861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9:27:26Z</dcterms:created>
  <dc:creator>David A. Solomon, Mark E. Russinovich, and Andreas Polze</dc:creator>
  <dc:description/>
  <cp:keywords/>
  <dc:language>en-US</dc:language>
  <cp:lastModifiedBy>David Solomon</cp:lastModifiedBy>
  <dcterms:modified xsi:type="dcterms:W3CDTF">2006-02-06T18:56:58Z</dcterms:modified>
  <cp:revision>85</cp:revision>
  <dc:subject>Windows Operating Systems Internals Course</dc:subject>
  <dc:title>Unit OS 10: Fault-Tolerance</dc:title>
</cp:coreProperties>
</file>